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368-0126-4DC5-9487-E2B5FAB3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FD4-692A-4990-91CA-D123A382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CB52-5931-4D93-885C-C594C6F6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48B-74E0-4BA6-8B5F-6965213D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D99A-E5D7-47B0-83E8-5F49FB3D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D44E-DFA6-428A-97FD-F0205B28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735F-A02A-4BA2-9FDF-F20C9C5A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255D-255C-48C1-A930-57C28030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8842-B14F-4C3E-A03A-0FA5E0CB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7554-BA63-460A-BCEF-436F5E89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62EC-73E6-4187-B20E-CE19428D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34F-0CC0-4D4A-A8AB-88C48E8A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91C2-7240-44D8-8CC2-F6FE21FC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EBBB-6D85-4010-ABCC-2DCC978C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BE1B-5A4D-444B-8ABF-58316DF3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2577-69DE-4E6D-B7B9-1055B81E2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8D1A-0027-41EA-8F91-FFB70B6D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79FE-3B34-4B69-A88E-CFCFC13C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304-DD22-47F7-BBC2-D89C0226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296-992D-4FF7-894C-86299519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8842-2549-4E2F-92D7-A98CD31A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DCF1-ACD1-4C36-B785-3ADFD881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1C7-8DB3-473A-A602-68257987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9107-CF41-451C-9364-2E19F44D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3956-D60E-4D87-B8CC-01FD5CF74A5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2641-93DA-4133-AF74-A3727ED6AFE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495320" y="2590920"/>
            <a:ext cx="3429000" cy="18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win Rivers Unified School Distri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8, 200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676520" y="1295280"/>
            <a:ext cx="6400800" cy="1295280"/>
            <a:chOff x="1676520" y="1295280"/>
            <a:chExt cx="6400800" cy="1295280"/>
          </a:xfrm>
        </p:grpSpPr>
        <p:sp>
          <p:nvSpPr>
            <p:cNvPr id="97" name=""/>
            <p:cNvSpPr/>
            <p:nvPr/>
          </p:nvSpPr>
          <p:spPr>
            <a:xfrm>
              <a:off x="1676520" y="1295280"/>
              <a:ext cx="6400800" cy="129528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rcRect l="1998" t="20670" r="47003" b="70006"/>
            <a:stretch/>
          </p:blipFill>
          <p:spPr>
            <a:xfrm>
              <a:off x="1905120" y="1523880"/>
              <a:ext cx="5867640" cy="815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ficiency Over Stand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11999" r="23752" b="15211"/>
          <a:stretch/>
        </p:blipFill>
        <p:spPr>
          <a:xfrm>
            <a:off x="762120" y="2311560"/>
            <a:ext cx="761976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swer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23752" t="10000" r="21877" b="30001"/>
          <a:stretch/>
        </p:blipFill>
        <p:spPr>
          <a:xfrm>
            <a:off x="762120" y="228600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swer Distribution 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17502" t="13000" r="33126" b="47003"/>
          <a:stretch/>
        </p:blipFill>
        <p:spPr>
          <a:xfrm>
            <a:off x="762120" y="2362320"/>
            <a:ext cx="83818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udent Profi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4375" t="17998" r="16876" b="20336"/>
          <a:stretch/>
        </p:blipFill>
        <p:spPr>
          <a:xfrm>
            <a:off x="762120" y="2286000"/>
            <a:ext cx="8381880" cy="4572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629400" y="2819520"/>
            <a:ext cx="160020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3505320"/>
            <a:ext cx="685800" cy="152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rget Are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4672" t="16519" r="4672" b="12461"/>
          <a:stretch/>
        </p:blipFill>
        <p:spPr>
          <a:xfrm>
            <a:off x="762120" y="2286000"/>
            <a:ext cx="7391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4998" t="15334" r="7001" b="12669"/>
          <a:stretch/>
        </p:blipFill>
        <p:spPr>
          <a:xfrm>
            <a:off x="762120" y="2286000"/>
            <a:ext cx="670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ercent Proficient by Subgrou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4001" t="14666" r="4001" b="12002"/>
          <a:stretch/>
        </p:blipFill>
        <p:spPr>
          <a:xfrm>
            <a:off x="762120" y="228600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erformance Explor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52084" r="0" b="7294"/>
          <a:stretch/>
        </p:blipFill>
        <p:spPr>
          <a:xfrm>
            <a:off x="762120" y="3200400"/>
            <a:ext cx="83818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ble Tal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might coaches use Measur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room teacher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ministrator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ime to Explo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g 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rience the Measures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ore the functions of the datab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roduce the Measures databa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view possible repor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ore Measures in small grou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the Measures Surv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asures Surve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easures Survey will be used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ntify teachers’ data analysis skill s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over training prefer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uide Measures professional develop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asu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552456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asur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5715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asu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5715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asu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362320" y="2362320"/>
            <a:ext cx="426708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by Stud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-623" t="11999" r="25624" b="18003"/>
          <a:stretch/>
        </p:blipFill>
        <p:spPr>
          <a:xfrm>
            <a:off x="76212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tem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30001" r="25004" b="6996"/>
          <a:stretch/>
        </p:blipFill>
        <p:spPr>
          <a:xfrm>
            <a:off x="76212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ults Over Stand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30001" r="0" b="5999"/>
          <a:stretch/>
        </p:blipFill>
        <p:spPr>
          <a:xfrm>
            <a:off x="76212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 Pope</cp:lastModifiedBy>
  <dcterms:modified xsi:type="dcterms:W3CDTF">2009-05-07T06:06:3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